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B23D-87CD-4B2B-BCBF-6AD96A7A8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B27F-6932-449F-A8C5-9389A75B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F285-A0BE-43BF-971C-D7F15A68E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A9E8-A33C-4DC8-916C-54861AE1F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0B0D-9C4F-447B-A305-EC140B013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1CBA-3D94-4C3C-A140-756A6DDA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6689-8E3F-47A3-9FAA-7CB55344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1465-5255-45B0-8D36-AD6F534B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1FE4-229D-4B21-8456-8D3E3B70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B13D-A0BC-4B05-8635-74FD6EAF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957B-92DD-4FEF-9B64-D66D3D94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E41F-0DEA-4F28-BDC8-C60C4A00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8F00-85CC-46E0-9222-0C843B3B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F63F-94AB-4CBF-BDAC-D53241A1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9755-0BD4-46E4-BAD4-0E1D2508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908C-9CD7-400A-91DF-83AFDDA60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3021-0138-4A5A-9E66-6B7B450D7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9C83-EA26-4241-A70C-21760044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71FF-E7FD-4F69-B522-00724678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6809-9F12-4E39-A2E8-CEE8AC41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CA84-BAA0-4FC6-A65E-A13E2514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6EBC-7877-4DC0-837C-6146F453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BCFD-0B5F-42CE-BEE3-BF0D9061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8733-5D5F-4D09-9F9C-5EFD7809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4A06-4A3D-4C89-844C-4403DA06DD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F8A9-465D-4106-ADB0-0889614154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Tent" descr="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Incense2" descr="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Ark" descr="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Mercy" descr="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riestRobe" descr="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Altar2" descr="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Altar" descr="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Fence" descr="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Gate" descr="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Laver" descr="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Lamp" descr="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ShowBread" descr="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Incense" descr="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0T02:17:02Z</dcterms:created>
  <dc:creator>Christian Chen</dc:creator>
  <dc:description/>
  <dc:language>en-US</dc:language>
  <cp:lastModifiedBy>Christian Chen</cp:lastModifiedBy>
  <dcterms:modified xsi:type="dcterms:W3CDTF">2006-10-08T15:16:18Z</dcterms:modified>
  <cp:revision>26</cp:revision>
  <dc:subject/>
  <dc:title>ROCK</dc:title>
</cp:coreProperties>
</file>